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76FB-E8E0-4AEF-99F6-BA5511CD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9E27-14B2-4200-A802-693B004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7E99-986B-4DFD-AF80-D659EDD2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9014-9761-418C-89E2-FCFC7982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2295-199D-4E56-9C89-25A52A45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3ED-5540-44F0-B437-CD95A9C6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5516-1175-45C7-8034-FDEFCD0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C766-62A6-43CA-A5D7-5FB1BDA5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0690-7EF2-42BA-B4A6-9DE71FD0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909B-E80B-499D-AE2A-3FF7506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F0D-BC10-402F-8694-CE6725E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8BEE-686F-439B-93B0-A2B7046F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0A83-7446-4464-B807-704CE8E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DD88-ED65-4395-9FE7-0F5F051F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E21-116E-48F7-ABA9-016C58F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C21B-C4F7-4591-9F9C-AE92240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EEF-6D07-4C39-8559-4291A6F2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E447-B78F-4DED-8915-378F38C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7758-B38B-4D8E-8B09-5544119C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3630-519D-44CB-A970-A35C690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DD9B-91ED-4B94-965D-2ED46B3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3C52-E9F3-408E-A898-DF64D05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4862-56A7-4938-A5A7-45B25A0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C08C-C3A6-4983-A570-9E03D45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D9D-3D27-4A5A-BC4B-6B6B6ACDF8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9A5-1F9B-4640-B102-4F8551E9F6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8353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IOGRAF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“La identidad y la alteridad en las formas poéticas arábigoandalusas: jaryas y , muwasha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humada Peña, Haydée. “De amor y de dolor. Mujeres, sentimientos en las jarchas y abencerrajes”. En Cyber Humanitatis,  N°11, (Invierno 199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Jessica Castro y Raquel Villalobos. “Poesía femenina hispanoárabe del siglo XII: imagen de un equívoco”. En  Cyber Humanitatis Nº 39 (Invierno 2006)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 “Encuentros y desencuentros en los romances fronterizos y morisc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drade Daneri, Claudia. </a:t>
            </a: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El Abencerraje y los Romances, dos lecturas de la España del siglo XVI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. En Cyber Humanitatis, N°40, (Primavera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artínez Iniesta, Bautista. “Crónica poética de la Reconquista de Granada y  antología del Romancero Fronterizo”. En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Google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01:44Z</dcterms:created>
  <dc:creator> </dc:creator>
  <dc:description/>
  <dc:language>en-US</dc:language>
  <cp:lastModifiedBy> </cp:lastModifiedBy>
  <dcterms:modified xsi:type="dcterms:W3CDTF">2007-10-15T20:36:08Z</dcterms:modified>
  <cp:revision>4</cp:revision>
  <dc:subject/>
  <dc:title>Diapositiva 1</dc:title>
</cp:coreProperties>
</file>